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3.gif" ContentType="image/gi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media/image4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8280" y="6597720"/>
            <a:ext cx="351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99"/>
                </a:solidFill>
                <a:latin typeface="Arial"/>
              </a:rPr>
              <a:t>Distributed XML Schema Dictionary Architecture  (20</a:t>
            </a:r>
            <a:r>
              <a:rPr b="0" lang="fr-FR" sz="800" spc="-1" strike="noStrike" baseline="30000">
                <a:solidFill>
                  <a:srgbClr val="ffff99"/>
                </a:solidFill>
                <a:latin typeface="Arial"/>
              </a:rPr>
              <a:t>th</a:t>
            </a:r>
            <a:r>
              <a:rPr b="0" lang="fr-FR" sz="800" spc="-1" strike="noStrike">
                <a:solidFill>
                  <a:srgbClr val="ffff99"/>
                </a:solidFill>
                <a:latin typeface="Arial"/>
              </a:rPr>
              <a:t> Jun 200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197000"/>
            <a:ext cx="8928000" cy="540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92040" y="49320"/>
            <a:ext cx="1622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99ccff"/>
                </a:solidFill>
                <a:latin typeface="Comic Sans MS"/>
              </a:rPr>
              <a:t>Slide </a:t>
            </a:r>
            <a:fld id="{17A3B040-44C1-48C0-8CE6-3A51AA8C365B}" type="slidenum">
              <a:rPr b="0" lang="en-IE" sz="1200" spc="-1" strike="noStrike">
                <a:solidFill>
                  <a:srgbClr val="99ccff"/>
                </a:solidFill>
                <a:latin typeface="Comic Sans MS"/>
              </a:rPr>
              <a:t>&lt;number&gt;</a:t>
            </a:fld>
            <a:r>
              <a:rPr b="0" lang="en-IE" sz="1200" spc="-1" strike="noStrike">
                <a:solidFill>
                  <a:srgbClr val="99ccff"/>
                </a:solidFill>
                <a:latin typeface="Comic Sans MS"/>
              </a:rPr>
              <a:t>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2e3ac"/>
                </a:solidFill>
                <a:latin typeface="Times New Roman"/>
              </a:rPr>
              <a:t>Click to edit the title text format</a:t>
            </a: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580860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 u="sng">
                <a:solidFill>
                  <a:srgbClr val="660066"/>
                </a:solidFill>
                <a:uFillTx/>
                <a:latin typeface="Comic Sans MS"/>
              </a:rPr>
              <a:t>Alejandro.nicolas@oami.europa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9760" y="1773360"/>
            <a:ext cx="5303880" cy="2797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a50021"/>
                </a:solidFill>
                <a:latin typeface="Comic Sans MS"/>
              </a:rPr>
              <a:t>Distributed XML Schema 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a50021"/>
                </a:solidFill>
                <a:latin typeface="Comic Sans MS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a50021"/>
                </a:solidFill>
                <a:latin typeface="Comic Sans MS"/>
              </a:rPr>
              <a:t>Alicante - 20</a:t>
            </a:r>
            <a:r>
              <a:rPr b="0" lang="en-IE" sz="1400" spc="-1" strike="noStrike" baseline="30000">
                <a:solidFill>
                  <a:srgbClr val="a50021"/>
                </a:solidFill>
                <a:latin typeface="Comic Sans MS"/>
              </a:rPr>
              <a:t>th</a:t>
            </a:r>
            <a:r>
              <a:rPr b="0" lang="en-IE" sz="1400" spc="-1" strike="noStrike">
                <a:solidFill>
                  <a:srgbClr val="a50021"/>
                </a:solidFill>
                <a:latin typeface="Comic Sans MS"/>
              </a:rPr>
              <a:t> June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963800"/>
            <a:ext cx="5257800" cy="3373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Comic Sans MS"/>
              </a:rPr>
              <a:t>IT Architect &amp; Standards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846440"/>
            <a:ext cx="7705800" cy="1008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8464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ff"/>
                </a:solidFill>
                <a:latin typeface="Comic Sans MS"/>
              </a:rPr>
              <a:t>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tributed Dictionaries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205000"/>
            <a:ext cx="86364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8600" y="2276640"/>
            <a:ext cx="761760" cy="46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69080" y="21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59360" y="21337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61080" y="2422440"/>
            <a:ext cx="43200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83760" y="24764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6000" y="242100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28800" y="247644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2205000"/>
            <a:ext cx="1224000" cy="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3480" y="246528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0000"/>
                </a:solidFill>
                <a:latin typeface="Comic Sans MS"/>
              </a:rPr>
              <a:t>Ma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55640" y="2117880"/>
            <a:ext cx="10645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66"/>
                </a:solidFill>
                <a:latin typeface="Arial"/>
              </a:rPr>
              <a:t>Super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41720" y="2494080"/>
            <a:ext cx="31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TM-XML Universal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85560" y="2854440"/>
            <a:ext cx="8623440" cy="1685880"/>
            <a:chOff x="385560" y="2854440"/>
            <a:chExt cx="8623440" cy="1685880"/>
          </a:xfrm>
        </p:grpSpPr>
        <p:sp>
          <p:nvSpPr>
            <p:cNvPr id="64" name=""/>
            <p:cNvSpPr/>
            <p:nvPr/>
          </p:nvSpPr>
          <p:spPr>
            <a:xfrm>
              <a:off x="5940360" y="3573360"/>
              <a:ext cx="215892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7440" y="3573360"/>
              <a:ext cx="215928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26920" y="2925720"/>
              <a:ext cx="271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Entreprise Specialized 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27640" y="2854440"/>
              <a:ext cx="0" cy="358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03280" y="3213000"/>
              <a:ext cx="4321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032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4360" y="3213000"/>
              <a:ext cx="115272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5280" y="3502080"/>
              <a:ext cx="252108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240" y="292572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[+Translatio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13880" y="3773520"/>
              <a:ext cx="10951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ff66"/>
                  </a:solidFill>
                  <a:latin typeface="Arial"/>
                </a:rPr>
                <a:t>Subcla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89440" y="3502080"/>
              <a:ext cx="237456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68200" y="4294080"/>
              <a:ext cx="221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Community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5560" y="4294080"/>
              <a:ext cx="232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Inter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37080" y="3502080"/>
              <a:ext cx="237492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46440" y="4294080"/>
              <a:ext cx="202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40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72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770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42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33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48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48040" y="4016520"/>
              <a:ext cx="22572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59160" y="3924360"/>
              <a:ext cx="63972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61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60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9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94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85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00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00400" y="4016520"/>
              <a:ext cx="22536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11160" y="3924360"/>
              <a:ext cx="64008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13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12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81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7400" y="3789360"/>
              <a:ext cx="44280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0720" y="3789360"/>
              <a:ext cx="40932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81000" y="3789360"/>
              <a:ext cx="38484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X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203640" y="5086440"/>
            <a:ext cx="172872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3080" y="5705640"/>
            <a:ext cx="16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EuroClass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580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85040" y="5319720"/>
            <a:ext cx="913320" cy="416520"/>
            <a:chOff x="3785040" y="5319720"/>
            <a:chExt cx="913320" cy="416520"/>
          </a:xfrm>
        </p:grpSpPr>
        <p:sp>
          <p:nvSpPr>
            <p:cNvPr id="105" name=""/>
            <p:cNvSpPr/>
            <p:nvPr/>
          </p:nvSpPr>
          <p:spPr>
            <a:xfrm>
              <a:off x="397800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941640" y="5467320"/>
              <a:ext cx="681840" cy="212400"/>
              <a:chOff x="3941640" y="5467320"/>
              <a:chExt cx="681840" cy="212400"/>
            </a:xfrm>
          </p:grpSpPr>
          <p:sp>
            <p:nvSpPr>
              <p:cNvPr id="107" name=""/>
              <p:cNvSpPr/>
              <p:nvPr/>
            </p:nvSpPr>
            <p:spPr>
              <a:xfrm>
                <a:off x="394164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4224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6004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05440" y="5490360"/>
                <a:ext cx="46404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5421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32396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378504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403280" y="5086440"/>
            <a:ext cx="172872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3880" y="5705640"/>
            <a:ext cx="148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e-Filing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0544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85040" y="5319720"/>
            <a:ext cx="913680" cy="416520"/>
            <a:chOff x="1985040" y="5319720"/>
            <a:chExt cx="913680" cy="416520"/>
          </a:xfrm>
        </p:grpSpPr>
        <p:sp>
          <p:nvSpPr>
            <p:cNvPr id="118" name=""/>
            <p:cNvSpPr/>
            <p:nvPr/>
          </p:nvSpPr>
          <p:spPr>
            <a:xfrm>
              <a:off x="217836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41640" y="5467320"/>
              <a:ext cx="682200" cy="212400"/>
              <a:chOff x="2141640" y="5467320"/>
              <a:chExt cx="682200" cy="2124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4164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4224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6040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05440" y="5490360"/>
                <a:ext cx="4644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421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243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98504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003640" y="5086440"/>
            <a:ext cx="172908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16960" y="5705640"/>
            <a:ext cx="157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Message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0580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585400" y="5319720"/>
            <a:ext cx="913680" cy="416520"/>
            <a:chOff x="5585400" y="5319720"/>
            <a:chExt cx="913680" cy="416520"/>
          </a:xfrm>
        </p:grpSpPr>
        <p:sp>
          <p:nvSpPr>
            <p:cNvPr id="131" name=""/>
            <p:cNvSpPr/>
            <p:nvPr/>
          </p:nvSpPr>
          <p:spPr>
            <a:xfrm>
              <a:off x="577872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742000" y="5467320"/>
              <a:ext cx="682200" cy="212400"/>
              <a:chOff x="5742000" y="5467320"/>
              <a:chExt cx="682200" cy="212400"/>
            </a:xfrm>
          </p:grpSpPr>
          <p:sp>
            <p:nvSpPr>
              <p:cNvPr id="133" name=""/>
              <p:cNvSpPr/>
              <p:nvPr/>
            </p:nvSpPr>
            <p:spPr>
              <a:xfrm>
                <a:off x="574200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4260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6076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905800" y="5490360"/>
                <a:ext cx="4644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4248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12468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58540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140360" y="4511520"/>
            <a:ext cx="0" cy="358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4870440"/>
            <a:ext cx="3311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869000"/>
            <a:ext cx="0" cy="2887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4869000"/>
            <a:ext cx="115272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869000"/>
            <a:ext cx="0" cy="28872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487044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672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28040" y="4654440"/>
            <a:ext cx="199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8000"/>
                </a:solidFill>
                <a:latin typeface="Comic Sans MS"/>
              </a:rPr>
              <a:t>Message Specialized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9840" y="4654440"/>
            <a:ext cx="10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8000"/>
                </a:solidFill>
                <a:latin typeface="Comic Sans MS"/>
              </a:rPr>
              <a:t>[+Translation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3040" y="2205000"/>
            <a:ext cx="677880" cy="43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403280" y="2241720"/>
            <a:ext cx="576360" cy="35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 Dia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050920" y="1628640"/>
            <a:ext cx="4453200" cy="446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ctionary Resources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1790640"/>
          <a:ext cx="8842320" cy="446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790640"/>
                    <a:ext cx="8842320" cy="44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T Interactio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5773680" cy="531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ry creation examp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859280" y="1773360"/>
          <a:ext cx="4038480" cy="21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0384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648320" y="3967200"/>
          <a:ext cx="4038480" cy="213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967200"/>
                    <a:ext cx="40384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-71280" y="1557360"/>
            <a:ext cx="5148000" cy="4422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95280" y="1846440"/>
            <a:ext cx="7705800" cy="1008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16720" y="18464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ff"/>
                </a:solidFill>
                <a:latin typeface="Comic Sans MS"/>
              </a:rPr>
              <a:t>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ry look-up rule descri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205000"/>
            <a:ext cx="86364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98600" y="2276640"/>
            <a:ext cx="761760" cy="466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9080" y="21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59360" y="21337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61080" y="2422440"/>
            <a:ext cx="43200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83760" y="24764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242100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28800" y="247644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2205000"/>
            <a:ext cx="1224000" cy="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5164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3480" y="246528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0000"/>
                </a:solidFill>
                <a:latin typeface="Comic Sans MS"/>
              </a:rPr>
              <a:t>Ma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55640" y="2117880"/>
            <a:ext cx="10645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66"/>
                </a:solidFill>
                <a:latin typeface="Arial"/>
              </a:rPr>
              <a:t>Super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1720" y="2494080"/>
            <a:ext cx="31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TM-XML Universal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85560" y="2854440"/>
            <a:ext cx="8623440" cy="1685880"/>
            <a:chOff x="385560" y="2854440"/>
            <a:chExt cx="8623440" cy="1685880"/>
          </a:xfrm>
        </p:grpSpPr>
        <p:sp>
          <p:nvSpPr>
            <p:cNvPr id="189" name=""/>
            <p:cNvSpPr/>
            <p:nvPr/>
          </p:nvSpPr>
          <p:spPr>
            <a:xfrm>
              <a:off x="5940360" y="3573360"/>
              <a:ext cx="215892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7440" y="3573360"/>
              <a:ext cx="215928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26920" y="2925720"/>
              <a:ext cx="271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Entreprise Specialized 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27640" y="2854440"/>
              <a:ext cx="0" cy="358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03280" y="3213000"/>
              <a:ext cx="4321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032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24360" y="3213000"/>
              <a:ext cx="115272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5280" y="3502080"/>
              <a:ext cx="252108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58240" y="292572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[+Translatio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13880" y="3773520"/>
              <a:ext cx="10951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ff66"/>
                  </a:solidFill>
                  <a:latin typeface="Arial"/>
                </a:rPr>
                <a:t>Subcla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89440" y="3502080"/>
              <a:ext cx="237456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68200" y="4294080"/>
              <a:ext cx="221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Community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5560" y="4294080"/>
              <a:ext cx="232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Inter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37080" y="3502080"/>
              <a:ext cx="237492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46440" y="4294080"/>
              <a:ext cx="202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40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72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770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42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33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48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48040" y="4016520"/>
              <a:ext cx="22572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59160" y="3924360"/>
              <a:ext cx="63972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61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60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29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4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85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00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00400" y="4016520"/>
              <a:ext cx="22536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11160" y="3924360"/>
              <a:ext cx="64008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3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12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81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7400" y="3789360"/>
              <a:ext cx="44280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60720" y="3789360"/>
              <a:ext cx="40932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1000" y="3789360"/>
              <a:ext cx="38484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X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203640" y="5086440"/>
            <a:ext cx="172872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33080" y="5705640"/>
            <a:ext cx="16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EuroClass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580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785040" y="5319720"/>
            <a:ext cx="913320" cy="416520"/>
            <a:chOff x="3785040" y="5319720"/>
            <a:chExt cx="913320" cy="416520"/>
          </a:xfrm>
        </p:grpSpPr>
        <p:sp>
          <p:nvSpPr>
            <p:cNvPr id="230" name=""/>
            <p:cNvSpPr/>
            <p:nvPr/>
          </p:nvSpPr>
          <p:spPr>
            <a:xfrm>
              <a:off x="397800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941640" y="5467320"/>
              <a:ext cx="681840" cy="212400"/>
              <a:chOff x="3941640" y="5467320"/>
              <a:chExt cx="681840" cy="212400"/>
            </a:xfrm>
          </p:grpSpPr>
          <p:sp>
            <p:nvSpPr>
              <p:cNvPr id="232" name=""/>
              <p:cNvSpPr/>
              <p:nvPr/>
            </p:nvSpPr>
            <p:spPr>
              <a:xfrm>
                <a:off x="394164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4224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6004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105440" y="5490360"/>
                <a:ext cx="46404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421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2396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378504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403280" y="5086440"/>
            <a:ext cx="172872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33880" y="5705640"/>
            <a:ext cx="148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e-Filing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0544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985040" y="5319720"/>
            <a:ext cx="913680" cy="416520"/>
            <a:chOff x="1985040" y="5319720"/>
            <a:chExt cx="913680" cy="416520"/>
          </a:xfrm>
        </p:grpSpPr>
        <p:sp>
          <p:nvSpPr>
            <p:cNvPr id="243" name=""/>
            <p:cNvSpPr/>
            <p:nvPr/>
          </p:nvSpPr>
          <p:spPr>
            <a:xfrm>
              <a:off x="217836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2141640" y="5467320"/>
              <a:ext cx="682200" cy="212400"/>
              <a:chOff x="2141640" y="5467320"/>
              <a:chExt cx="682200" cy="212400"/>
            </a:xfrm>
          </p:grpSpPr>
          <p:sp>
            <p:nvSpPr>
              <p:cNvPr id="245" name=""/>
              <p:cNvSpPr/>
              <p:nvPr/>
            </p:nvSpPr>
            <p:spPr>
              <a:xfrm>
                <a:off x="214164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4224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6040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05440" y="5490360"/>
                <a:ext cx="4644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421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5243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198504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003640" y="5086440"/>
            <a:ext cx="172908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16960" y="5705640"/>
            <a:ext cx="157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Message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580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85400" y="5319720"/>
            <a:ext cx="913680" cy="416520"/>
            <a:chOff x="5585400" y="5319720"/>
            <a:chExt cx="913680" cy="416520"/>
          </a:xfrm>
        </p:grpSpPr>
        <p:sp>
          <p:nvSpPr>
            <p:cNvPr id="256" name=""/>
            <p:cNvSpPr/>
            <p:nvPr/>
          </p:nvSpPr>
          <p:spPr>
            <a:xfrm>
              <a:off x="577872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742000" y="5467320"/>
              <a:ext cx="682200" cy="212400"/>
              <a:chOff x="5742000" y="5467320"/>
              <a:chExt cx="682200" cy="212400"/>
            </a:xfrm>
          </p:grpSpPr>
          <p:sp>
            <p:nvSpPr>
              <p:cNvPr id="258" name=""/>
              <p:cNvSpPr/>
              <p:nvPr/>
            </p:nvSpPr>
            <p:spPr>
              <a:xfrm>
                <a:off x="574200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04260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26076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905800" y="5490360"/>
                <a:ext cx="4644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4248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2468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558540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140360" y="4511520"/>
            <a:ext cx="0" cy="358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68360" y="4870440"/>
            <a:ext cx="3311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68360" y="4869000"/>
            <a:ext cx="0" cy="2887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4869000"/>
            <a:ext cx="115272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2000" y="4869000"/>
            <a:ext cx="0" cy="28872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487044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1672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400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7636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28040" y="4654440"/>
            <a:ext cx="199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8000"/>
                </a:solidFill>
                <a:latin typeface="Comic Sans MS"/>
              </a:rPr>
              <a:t>Message Specialized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9840" y="4654440"/>
            <a:ext cx="10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8000"/>
                </a:solidFill>
                <a:latin typeface="Comic Sans MS"/>
              </a:rPr>
              <a:t>[+Translation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3040" y="2205000"/>
            <a:ext cx="677880" cy="43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403280" y="2241720"/>
            <a:ext cx="576360" cy="3520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227640" y="5275800"/>
            <a:ext cx="42732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506160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88000" y="376452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354708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32308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51640" y="167544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89160" y="515520"/>
            <a:ext cx="357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Questions &amp; Answers</a:t>
            </a:r>
            <a:endParaRPr b="0" lang="en-US" sz="28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360" y="2340000"/>
            <a:ext cx="3809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50920" y="1555920"/>
            <a:ext cx="8642160" cy="4968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420040" y="615960"/>
            <a:ext cx="473040" cy="4366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4500720" y="588960"/>
            <a:ext cx="496800" cy="458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187280" y="169956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omic Sans MS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49800" y="6093000"/>
            <a:ext cx="3166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Comic Sans MS"/>
              </a:rPr>
              <a:t>http://www.europa.oami.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08000" y="1184400"/>
            <a:ext cx="8856720" cy="228600"/>
            <a:chOff x="108000" y="1184400"/>
            <a:chExt cx="8856720" cy="228600"/>
          </a:xfrm>
        </p:grpSpPr>
        <p:sp>
          <p:nvSpPr>
            <p:cNvPr id="292" name=""/>
            <p:cNvSpPr/>
            <p:nvPr/>
          </p:nvSpPr>
          <p:spPr>
            <a:xfrm>
              <a:off x="108000" y="1184400"/>
              <a:ext cx="755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28000" y="1184400"/>
              <a:ext cx="93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newsflash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1:33:13Z</dcterms:created>
  <dc:creator>Tran Alexandre</dc:creator>
  <dc:description/>
  <cp:keywords>XML TM-XML Trade Mark Standard</cp:keywords>
  <dc:language>en-US</dc:language>
  <cp:lastModifiedBy>tranale</cp:lastModifiedBy>
  <cp:lastPrinted>2003-05-30T07:23:11Z</cp:lastPrinted>
  <dcterms:modified xsi:type="dcterms:W3CDTF">2007-06-21T14:03:50Z</dcterms:modified>
  <cp:revision>1860</cp:revision>
  <dc:subject>TM-XML</dc:subject>
  <dc:title>TM-XML Prsentation to SCIT 200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RAINING\PresentationPPT\HTML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1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